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ECB-AF5F-4582-9EF0-EA76F105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B38-2433-40E4-A12B-B6627293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A2B-AF5E-43CF-A06D-BEFFCE77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15E-464B-47C3-AE7F-E8412C7C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F82-934E-4C85-BBC9-5D154ED6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840-A045-417D-991F-967ADF0C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90B-8C0C-436D-9F45-7045B4D3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D01-B671-4F9D-B102-A54BE1FA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002-3ACD-41B0-BC8C-64A57148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F00-767E-4072-8D26-2739275C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F8D-23C1-42D5-AA8F-24908B9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B85-35D5-4B51-B429-6E8A3752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864A-9C0D-47AD-9B56-3D68FAE79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loomberg.com/markets/rates-bonds/government-bonds/us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ECONOMICS IN ON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THE ECONOMY-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THE ECONOMY-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CITS/SURPLUSES AND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and should the government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and Monetar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IN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N CURRENT DOLLARS- NOT ADJUSTED FOR PRICE INDEX (LEVEL)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Dollar (Nominal GDP) is adjusted by the Price Index.  The Price Index is determined by the extent that inflation or deflation has effected the value of a Dollar ($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ear – not too far off-- selected to act as the base ye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ny change in the value of the Dollar the Price Index is 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increase in prices would result in a Price Index of 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decrease in prices would result in a Price index of .9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ing- The final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e year GDP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YEAR GDP divided by 1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(constant dollar GDP)= Nominal (current dollar G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Year GDP is Nominal GDP divided by the New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YR2/price index y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GDP A GOOD MEASUREMENT FOR EVALUATING THE EC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DURING THE DEPRESSION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iod with 40% decrease in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s record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ansactions are not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they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it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GDP A MEASUR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S OFTEN USED AS A MEANS OF MEASURING ONE COUNTRIES OUTPUT OR WELL-BEING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Department and Commerce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eau of Economic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- Real GDP of 3-4.5% -&gt;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’s the economy hea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per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hours work in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sent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atitistics can help us understand what the economy is doing at this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ing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rate- payroll fig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I (producer Price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#s should tell us how bad the economy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 – Consumer Pric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rate charged by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to income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- Peak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spect—GROWTH-Bigger pie to share, possible Budget Surpl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- 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?-Not many, causes businesses to streamline-&gt;become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-&gt;loads-&gt;Unemployment, lower incomes, social ills- BIG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er R. Reagan- the Difference btw Recession and Depr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y neighbor loses his/her job-&gt;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lose my job-&gt;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DOMESTIC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THE TOTAL OUTPUT OF THE ECONOMY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VALUE approx $18Trillion (nomi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urplus/defic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Government Spending and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evel- Primarily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imes, revenue up, bad times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Ta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fies good and ba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as a % of economy, lowest on record-&gt;14.8% of economy-&gt; appr $1.5 Trillion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-2000 good times brought in high tax revenue-&gt; SURPL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purchases and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-go down? May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on- sky rocketSSS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UNTERCYCLICAL POLIC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nesian economics- jump start the economy through government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imulus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UTOMATIC STABILIZERS---UNEMPLOYMENT INSURANCE, WELFARE, FOOD ST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st year Government expenditures 25% of economy—60 year rec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cits/Debt and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ate Government Spending less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itive—Surplus (rare), some say ba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gative- Deficit (common) some say good, unless unwieldly or if it “crowds out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—if you regularly run deficits you’ll create Debt (debt is accumulated defic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Deficit/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ces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expenditure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revenue- Historically incredibly l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—HUGE DEFICITs -10%+ OF ECONOMY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 trillion dollar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arties contribute to Deficit—Dems—spending side, Reps-revenu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bt- approx. $18Trillion –is that big? Deficits since 1960s except under Cl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5 deficit $465 Billion- 2014 $483 bill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97 b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w deficit recorded in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t/Deficits and serv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off debt-&gt; servicing the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bonds!- different mat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maturity and interest rate positively cor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price determines its interest rate-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00 bond 2yrs- (value at the end of the term)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loomberg.com/markets/rates-bonds/government-bonds/u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governmen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rians-NADA- Laissez-Faire—have faith it’ll all work out, don’t screw up th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rrecting? Say’s Law?-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else---someth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POLICY- TAX AND SPEND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- MONEY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C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Branch and Legislativ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Propos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passes bills—creat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and Spend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---pass bills that reduce taxes and spend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Management Budget-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cil of Economic Ad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sury, Commerce, Labor et.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ressional Budget OfficeC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ys and Means Committee, Budget et.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, Commerce et.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tary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, Money, and Mo Mone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’s in 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EDERAL RE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913- STABILIZE THE GROWTH OF THE MONEY SUPPLY, OVERSEE AND REGULATE THE BANKING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 Reserve Chairman- appointed by President- 4 year term- TODAY BEN BERN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Federal Reserve- Is INDEPENDENT OF THE POLITICAL PROCE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the Thermo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hot-uh oh! Inflation?--slow down the economy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cold-uh oh! Unemployment?----heat up the economy-&gt; lower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/De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-&gt;value of a $ declines, takes more $$$ to buy the same set of goods/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tion-&gt;value $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helps people who borrow at fixed rates, hurts people who lend and people on a fixed income (deflation is opp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inflation-current 1% (3/2016), post WW2 high was appr. 12% in the late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inflation- 100s of %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Inflation/Defl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state? Under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-&gt;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inflation- CPI—basket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 Price Inflation- PPI (cost of resources for Produc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corporate a base year as a unit of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lie with the “basket” of goods– improvements-and bells and whistles often aren’t fully in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PUTION + INVESTMENT + GOVERNMENT SPENDING + (EXPORTS-IM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ment/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Force -&gt;population employed or actively looking for work (16-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Participation Rate-&gt; Labor Force divided by Total # of people 16-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ed- actively looking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measurement, underemployment, part-time employment, underground economy, those who gave up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- Changes in what society produces, how it produces it, where it produ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, auto worker unemployed in Mi. but position for high tech Google unfilled in 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ical- Consistent with the business cycle- good times low-bad times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- EG Those who left their jobs voluntarily but don’t’ yet have another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ways count on rough 3 to 4%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147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mployment Rate et. 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yclical Unemployment tied to Phillips Curve— Inflation and Unemployment inversely rel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rrent Unemployment Rate 5.0% (3/2016), peak post War- early 1980s 10%.  Depression?- 25%, Great Recession –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 today- Long Term Unemployed—social ill- How to get back in the Labor Fo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gflation—late 70s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high inflation, high unemployment and slow growth (pushed out Phillips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must grow by 2% to keep unemployment from 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lement programs will be a big problem in 10+ years may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economy will exacerbate deficit/debt problems—Keynes might say—so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ffer Curv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w taxes-&gt; more govt revenu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true at current tax levels, though taxes do cause people to change their behavior and does increase undergrou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-70% OF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ED” (ON THE BOOKS) SALE OF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NCLUDE ILLEGAL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LE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ALUE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STOCK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, MACHINE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USED TO PRODUCE A GOOD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I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OVERNMENT SPENDING, BUT NOT TRANSFER PAY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(WASHINGTON D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(HARTF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(DARI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OD TIMES GOVERNMENT SPENDING LOWER THAN IN BA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nsfer payments- payments that go from one person to another..ie medic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 &amp; IM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SOLD ABROAD (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FROM ABROAD PURCHASED IN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way to measure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ney earned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al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GDP (C+I+G +(X-M))=Income GDP (se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ADJUSTED TO REFLECT INFLATION OR DE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ARE APPLES TO AP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“CONSTANT” DOLLAR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1:28:55Z</dcterms:created>
  <dc:creator>Darien Public Schools</dc:creator>
  <dc:description/>
  <dc:language>en-US</dc:language>
  <cp:lastModifiedBy>Administrator</cp:lastModifiedBy>
  <dcterms:modified xsi:type="dcterms:W3CDTF">2016-04-04T13:15:49Z</dcterms:modified>
  <cp:revision>27</cp:revision>
  <dc:subject/>
  <dc:title>gdp</dc:title>
</cp:coreProperties>
</file>